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8678-4B43-45F2-980D-51DA52679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4148-1309-4DD5-9415-6F19D3240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57D8-5B5F-4376-89AC-E29765651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75B3-2873-4EE0-9834-C5404CFA8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B96E-5A55-4980-A93E-0A70B2CA8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2B82-7C3E-41B0-A1D2-7944285F8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1B28-FDBD-4C30-A4B3-5C03DC85D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71D2-CAB1-4E4A-AD9E-1122275C9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319D-01EC-4EC6-BCB9-5DB0C7287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9F86-F3B0-4E4E-9AB3-404B33051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117B-5C93-46A9-B0E4-DC6574D02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C507-DA61-4DB5-B052-30CCC6A69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2729A-9C1B-47A7-9AAA-F42F598AC756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98760"/>
            <a:ext cx="7772400" cy="11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914560"/>
            <a:ext cx="6400800" cy="13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785880" y="1019160"/>
            <a:ext cx="7570800" cy="31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785880" y="1030320"/>
            <a:ext cx="7570800" cy="30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785880" y="1076400"/>
            <a:ext cx="7570800" cy="29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1692360" y="1160640"/>
            <a:ext cx="532764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1614600" y="851040"/>
            <a:ext cx="5914800" cy="34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4T09:36:06Z</dcterms:created>
  <dc:creator>MASINA Cinzia (EMPL)</dc:creator>
  <dc:description/>
  <dc:language>en-US</dc:language>
  <cp:lastModifiedBy>Reilly, Fiona</cp:lastModifiedBy>
  <dcterms:modified xsi:type="dcterms:W3CDTF">2015-09-07T14:43:23Z</dcterms:modified>
  <cp:revision>2</cp:revision>
  <dc:subject/>
  <dc:title>PowerPoint Presentation</dc:title>
</cp:coreProperties>
</file>